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F9A-9BBE-45BC-BE9A-3BC31697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434-577D-4A1E-9B96-63AAE037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723-5D7B-4990-8988-3678A61F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CBD-448A-446A-B5E4-C321A6C4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FC8D-255C-4D6A-911B-B6EACCE1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A14C-20E0-43FE-956A-D38FA023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7560-8A36-4596-96ED-580537CC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D47A-C21C-4495-918D-42C099A7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26F5-6ABF-4136-B71E-AD715A2C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FA3D-935D-4C6C-9828-42A7DD89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0325-9DFB-41C3-BB1E-9880A48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D37-5E01-4802-B452-7AFF0F25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970B-4BC2-4727-BE7C-1BF884CE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C60C-D4FB-4A12-BCBB-55DDB2F5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14F2-6393-4C75-967A-45DD1DBB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2990-756B-451E-80F4-CA4B4FA6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9EE8-3F95-4CF9-A06A-8F974B4E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5D7-79EF-4FD8-AB9B-CEBA1F55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3C9-0794-4A96-B0D5-E71B3BA2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A39-17F6-4100-BADB-44837E7A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1AB-7828-4E9B-BB5A-A2FBE6D2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25A-A221-44E7-8902-C82CFD5F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814-699E-46AE-8CE3-86D46C94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900-F633-40CA-ABF2-52F33CC3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F8EF-A5C8-4A55-97F5-4CBFC5FB402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B826-9304-431F-9A9D-865B5F6E914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“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st Dangerous Game”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y Richard Connel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33" name="Object 1029"/>
          <p:cNvGraphicFramePr/>
          <p:nvPr/>
        </p:nvGraphicFramePr>
        <p:xfrm>
          <a:off x="1143000" y="2514600"/>
          <a:ext cx="154620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15462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Rainsford is motivated by the desire to stay aliv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f Zaroff catches him he will be killed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Zaroff is motivated by the desire to be challenged in the hu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nimals had ceased to challenge him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ainsford had presented the best challenge yet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Rainsford is a dynamic character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t the beginning he believes that animals don’t feel any fear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nce he is hunted and feels fear he says he knows how animals feel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hen he confronts Zaroff at the end Rainsford tells Zaroff that he is still a beast at bay -- he has adopted an animal mentality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Universal Them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order to fully understand others, we must first walk in their sho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od is suspenseful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ame of the island -- Ship-Trap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ll the references to darknes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has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nell’s tone is straightforward and non-judgmental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19320" y="33526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nell doesn’t show bias toward Rainsford or Zaroff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doesn’t judge Zaroff’s game or Rainsford’s opinion of hunted animal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doesn’t comment on the events of the story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chooses a third person limited point of view and remains within that context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Impact"/>
              </a:rPr>
              <a:t>Textual Analysis Terms and Definitions</a:t>
            </a:r>
            <a:endParaRPr b="0" lang="en-US" sz="6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oreshadow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ive hints about future even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mager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etails that appeal to the five sens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otif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attern of images or symbol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 this story darkness is the motif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ormat for the Plot Diagram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1447920" y="54864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 flipV="1">
            <a:off x="3429000" y="3124080"/>
            <a:ext cx="152388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4952880" y="3124080"/>
            <a:ext cx="13716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6324480" y="54864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371600" y="571500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xposition --introduces the characters, background and set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038480" y="457200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flict -- struggle between opposing for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1676520" y="335268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ising Action -- three statements that summarize the s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962520" y="220968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max-- point where the protagonist cha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791320" y="2971800"/>
            <a:ext cx="251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alling action -- one statement about what leads to the end of the confli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6400800" y="464832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solution -- the end of the confli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llus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eference to a famous work of art, literature, music, etc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Hyperbol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xtreme exaggeration for effec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lot Diagram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1371600" y="51814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 flipV="1">
            <a:off x="3505320" y="3429000"/>
            <a:ext cx="17524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5257800" y="3429000"/>
            <a:ext cx="19051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7162920" y="533412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371600" y="5334120"/>
            <a:ext cx="304812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etting:  Ship-Trap Isl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otagonist -- Rainsf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tagonist --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Zar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191120" y="4572000"/>
            <a:ext cx="2057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fli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n Vs. M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n Vs. Na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n Vs. Sel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838080" y="3276720"/>
            <a:ext cx="3124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ainsford jumps over the cliff to escape from Zaro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ainsford is hunted by Zaro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ainsford swims to Ship-Trap Island after falling off the yac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4114800" y="26668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ainsford hides in Zaroff’s ro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6095880" y="3352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ainsford and Zaroff f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7010280" y="472428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ainsford kills Zaro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haracter Analysis of Rainsfor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haracterization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nell uses Indirect Characterization to develop Rainsfor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ainsford is an excellent hunter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insford has written a book about hunting.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insford recognizes the cartridge that he picks up as that of a twenty-two caliber gun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insford sets traps for Zaroff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insford is the only person to survive the game with Zaroff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752480" y="2362320"/>
            <a:ext cx="678204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ainsford doesn’t view hunting animals as mur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 says animals don’t understand f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 says that Zaroff is a murderer because he hunts people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nell uses indirect characterization to develop Zaroff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aroff is an excellent hunte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 one has survived his game so far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is no longer challenged by hunting animal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has read lots of books about hunting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600200" y="2286000"/>
            <a:ext cx="6858000" cy="29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aroff is sophisticated and refined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has read books about hunting that were written in English, French and Russi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hums a tune from an op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lives in a well decorated Chateau (oaken panels, high ceiling, vast refectory t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serves a sophisticated, refined meal to Rainsford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nell uses direct characterization to develop Zaroff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6629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aroff is either evil or animalistic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ck black eyebrows and pointed black moustache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lack, bright ey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ad black eyes (pg. 23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ious, red-lipped smile (18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8:00:12Z</dcterms:created>
  <dc:creator>Cumberland County Schools</dc:creator>
  <dc:description/>
  <dc:language>en-US</dc:language>
  <cp:lastModifiedBy>Beth Ragland</cp:lastModifiedBy>
  <dcterms:modified xsi:type="dcterms:W3CDTF">2011-08-30T12:13:35Z</dcterms:modified>
  <cp:revision>23</cp:revision>
  <dc:subject/>
  <dc:title>“The Most Dangerous Game” by Richard Connell</dc:title>
</cp:coreProperties>
</file>